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958-1273-435B-A032-9C2DF5FD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D29-CFB7-40FC-9EC6-AAB6E25B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AE0-3AEA-4A2F-919B-BD3ABADD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6FB-5B66-4331-9E59-145C2679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1C40-6F4E-45E6-8F85-9BF6C5E7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15A-8769-4219-9CFC-E13C9A9B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906-91BF-434D-9B9A-F88A61F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A7F-EE0E-4805-8C8A-6EB99936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6AD-20F1-4912-B0EC-DEDA30F5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624-C246-459B-85B7-71836C3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1B2-455B-4D6E-BB73-0447992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9B9-7628-46DA-BF9B-F486A153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6343-61B2-408B-B83D-8597C99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3A89-F22E-41C4-A201-A9EB61C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FCC-0B00-4B3C-9B90-4537CFF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6AB-D581-48F7-88A4-6E11CA02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CB1-ECCB-4040-9DE7-38D1B496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D49-9F57-47CC-B7E5-744D28F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A63-A3A7-47AC-9F16-E8361CC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0BB-387A-49EF-ACDB-E8EED34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AFD-7A5A-4FFB-A1F4-3967E67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047-D794-4E16-BE74-1379557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512-6FAC-4128-A344-FD0678B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B18-3DDC-474D-84B0-8BB8BD3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DBE5-94BA-4F37-8805-E765F4C725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B4C-8C1B-44E1-A52B-8604ABE820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inemademinuit.france3.fr/" TargetMode="External"/><Relationship Id="rId2" Type="http://schemas.openxmlformats.org/officeDocument/2006/relationships/hyperlink" Target="http://cinemademinuit.france3.fr/" TargetMode="External"/><Relationship Id="rId3" Type="http://schemas.openxmlformats.org/officeDocument/2006/relationships/hyperlink" Target="http://cinemademinuit.france3.fr/" TargetMode="External"/><Relationship Id="rId4" Type="http://schemas.openxmlformats.org/officeDocument/2006/relationships/hyperlink" Target="http://programmes.france3.fr/city-homicide" TargetMode="External"/><Relationship Id="rId5" Type="http://schemas.openxmlformats.org/officeDocument/2006/relationships/hyperlink" Target="http://lacrim.france2.fr/" TargetMode="External"/><Relationship Id="rId6" Type="http://schemas.openxmlformats.org/officeDocument/2006/relationships/hyperlink" Target="http://lacrim.france2.fr/" TargetMode="External"/><Relationship Id="rId7" Type="http://schemas.openxmlformats.org/officeDocument/2006/relationships/hyperlink" Target="http://lacrim.france2.fr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francetv.fr/deshommesenvrai/" TargetMode="External"/><Relationship Id="rId2" Type="http://schemas.openxmlformats.org/officeDocument/2006/relationships/hyperlink" Target="http://blog.francetv.fr/deshommesenvrai/" TargetMode="External"/><Relationship Id="rId3" Type="http://schemas.openxmlformats.org/officeDocument/2006/relationships/hyperlink" Target="http://blog.francetv.fr/deshommesenvrai/" TargetMode="External"/><Relationship Id="rId4" Type="http://schemas.openxmlformats.org/officeDocument/2006/relationships/hyperlink" Target="http://blog.francetv.fr/deshommesenvrai/" TargetMode="External"/><Relationship Id="rId5" Type="http://schemas.openxmlformats.org/officeDocument/2006/relationships/hyperlink" Target="http://blog.francetv.fr/deshommesenvrai/" TargetMode="External"/><Relationship Id="rId6" Type="http://schemas.openxmlformats.org/officeDocument/2006/relationships/hyperlink" Target="http://blog.francetv.fr/deshommesenvrai/" TargetMode="External"/><Relationship Id="rId7" Type="http://schemas.openxmlformats.org/officeDocument/2006/relationships/hyperlink" Target="http://blog.francetv.fr/deshommesenvrai/" TargetMode="External"/><Relationship Id="rId8" Type="http://schemas.openxmlformats.org/officeDocument/2006/relationships/hyperlink" Target="http://blog.francetv.fr/deshommesenvrai/" TargetMode="External"/><Relationship Id="rId9" Type="http://schemas.openxmlformats.org/officeDocument/2006/relationships/hyperlink" Target="http://blog.francetv.fr/deshommesenvrai/" TargetMode="External"/><Relationship Id="rId10" Type="http://schemas.openxmlformats.org/officeDocument/2006/relationships/hyperlink" Target="http://blog.francetv.fr/deshommesenvrai/" TargetMode="External"/><Relationship Id="rId11" Type="http://schemas.openxmlformats.org/officeDocument/2006/relationships/hyperlink" Target="http://blog.francetv.fr/deshommesenvrai/" TargetMode="External"/><Relationship Id="rId12" Type="http://schemas.openxmlformats.org/officeDocument/2006/relationships/hyperlink" Target="http://blog.francetv.fr/deshommesenvrai/" TargetMode="External"/><Relationship Id="rId13" Type="http://schemas.openxmlformats.org/officeDocument/2006/relationships/hyperlink" Target="http://blog.francetv.fr/deshommesenvrai/" TargetMode="External"/><Relationship Id="rId14" Type="http://schemas.openxmlformats.org/officeDocument/2006/relationships/hyperlink" Target="http://blog.francetv.fr/deshommesenvrai/" TargetMode="External"/><Relationship Id="rId15" Type="http://schemas.openxmlformats.org/officeDocument/2006/relationships/hyperlink" Target="http://blog.francetv.fr/deshommesenvrai/" TargetMode="External"/><Relationship Id="rId16" Type="http://schemas.openxmlformats.org/officeDocument/2006/relationships/hyperlink" Target="http://blog.francetv.fr/deshommesenvrai/" TargetMode="External"/><Relationship Id="rId17" Type="http://schemas.openxmlformats.org/officeDocument/2006/relationships/hyperlink" Target="http://blog.francetv.fr/deshommesenvrai/" TargetMode="External"/><Relationship Id="rId18" Type="http://schemas.openxmlformats.org/officeDocument/2006/relationships/hyperlink" Target="http://blog.francetv.fr/deshommesenvrai/" TargetMode="External"/><Relationship Id="rId19" Type="http://schemas.openxmlformats.org/officeDocument/2006/relationships/hyperlink" Target="http://blog.francetv.fr/deshommesenvrai/" TargetMode="External"/><Relationship Id="rId20" Type="http://schemas.openxmlformats.org/officeDocument/2006/relationships/hyperlink" Target="http://blog.francetv.fr/deshommesenvrai/" TargetMode="External"/><Relationship Id="rId21" Type="http://schemas.openxmlformats.org/officeDocument/2006/relationships/hyperlink" Target="http://blog.francetv.fr/deshommesenvrai/" TargetMode="External"/><Relationship Id="rId22" Type="http://schemas.openxmlformats.org/officeDocument/2006/relationships/hyperlink" Target="http://blog.francetv.fr/deshommesenvrai/" TargetMode="External"/><Relationship Id="rId23" Type="http://schemas.openxmlformats.org/officeDocument/2006/relationships/hyperlink" Target="http://blog.francetv.fr/deshommesenvrai/" TargetMode="External"/><Relationship Id="rId24" Type="http://schemas.openxmlformats.org/officeDocument/2006/relationships/hyperlink" Target="http://blog.francetv.fr/deshommesenvrai/" TargetMode="External"/><Relationship Id="rId25" Type="http://schemas.openxmlformats.org/officeDocument/2006/relationships/hyperlink" Target="http://blog.francetv.fr/deshommesenvrai/" TargetMode="External"/><Relationship Id="rId26" Type="http://schemas.openxmlformats.org/officeDocument/2006/relationships/hyperlink" Target="http://blog.francetv.fr/deshommesenvrai/" TargetMode="External"/><Relationship Id="rId27" Type="http://schemas.openxmlformats.org/officeDocument/2006/relationships/hyperlink" Target="http://blog.francetv.fr/deshommesenvrai/" TargetMode="External"/><Relationship Id="rId28" Type="http://schemas.openxmlformats.org/officeDocument/2006/relationships/hyperlink" Target="http://blog.francetv.fr/deshommesenvrai/" TargetMode="External"/><Relationship Id="rId29" Type="http://schemas.openxmlformats.org/officeDocument/2006/relationships/hyperlink" Target="http://blog.francetv.fr/deshommesenvrai/" TargetMode="External"/><Relationship Id="rId30" Type="http://schemas.openxmlformats.org/officeDocument/2006/relationships/hyperlink" Target="http://blog.francetv.fr/deshommesenvrai/" TargetMode="External"/><Relationship Id="rId31" Type="http://schemas.openxmlformats.org/officeDocument/2006/relationships/hyperlink" Target="http://blog.francetv.fr/deshommesenvrai/" TargetMode="External"/><Relationship Id="rId32" Type="http://schemas.openxmlformats.org/officeDocument/2006/relationships/hyperlink" Target="http://blog.francetv.fr/deshommesenvrai/" TargetMode="External"/><Relationship Id="rId33" Type="http://schemas.openxmlformats.org/officeDocument/2006/relationships/hyperlink" Target="http://blog.francetv.fr/deshommesenvrai/" TargetMode="External"/><Relationship Id="rId34" Type="http://schemas.openxmlformats.org/officeDocument/2006/relationships/hyperlink" Target="http://blog.francetv.fr/deshommesenvrai/" TargetMode="External"/><Relationship Id="rId35" Type="http://schemas.openxmlformats.org/officeDocument/2006/relationships/hyperlink" Target="http://blog.francetv.fr/deshommesenvrai/" TargetMode="External"/><Relationship Id="rId36" Type="http://schemas.openxmlformats.org/officeDocument/2006/relationships/hyperlink" Target="http://blog.francetv.fr/deshommesenvrai/" TargetMode="External"/><Relationship Id="rId37" Type="http://schemas.openxmlformats.org/officeDocument/2006/relationships/hyperlink" Target="http://blog.francetv.fr/deshommesenvrai/" TargetMode="External"/><Relationship Id="rId38" Type="http://schemas.openxmlformats.org/officeDocument/2006/relationships/hyperlink" Target="http://blog.francetv.fr/deshommesenvrai/" TargetMode="External"/><Relationship Id="rId39" Type="http://schemas.openxmlformats.org/officeDocument/2006/relationships/hyperlink" Target="http://blog.francetv.fr/deshommesenvrai/" TargetMode="External"/><Relationship Id="rId40" Type="http://schemas.openxmlformats.org/officeDocument/2006/relationships/hyperlink" Target="http://blog.francetv.fr/deshommesenvrai/" TargetMode="External"/><Relationship Id="rId41" Type="http://schemas.openxmlformats.org/officeDocument/2006/relationships/hyperlink" Target="http://blog.francetv.fr/deshommesenvrai/" TargetMode="External"/><Relationship Id="rId42" Type="http://schemas.openxmlformats.org/officeDocument/2006/relationships/hyperlink" Target="http://blog.francetv.fr/deshommesenvrai/" TargetMode="External"/><Relationship Id="rId43" Type="http://schemas.openxmlformats.org/officeDocument/2006/relationships/hyperlink" Target="http://blog.francetv.fr/deshommesenvrai/" TargetMode="External"/><Relationship Id="rId44" Type="http://schemas.openxmlformats.org/officeDocument/2006/relationships/hyperlink" Target="http://blog.francetv.fr/deshommesenvrai/" TargetMode="External"/><Relationship Id="rId45" Type="http://schemas.openxmlformats.org/officeDocument/2006/relationships/hyperlink" Target="http://blog.francetv.fr/deshommesenvrai/" TargetMode="External"/><Relationship Id="rId46" Type="http://schemas.openxmlformats.org/officeDocument/2006/relationships/hyperlink" Target="http://blog.francetv.fr/deshommesenvrai/" TargetMode="External"/><Relationship Id="rId47" Type="http://schemas.openxmlformats.org/officeDocument/2006/relationships/hyperlink" Target="http://blog.francetv.fr/deshommesenvrai/" TargetMode="External"/><Relationship Id="rId48" Type="http://schemas.openxmlformats.org/officeDocument/2006/relationships/hyperlink" Target="http://blog.francetv.fr/deshommesenvrai/" TargetMode="External"/><Relationship Id="rId49" Type="http://schemas.openxmlformats.org/officeDocument/2006/relationships/hyperlink" Target="http://blog.francetv.fr/deshommesenvrai/" TargetMode="External"/><Relationship Id="rId50" Type="http://schemas.openxmlformats.org/officeDocument/2006/relationships/hyperlink" Target="http://blog.francetv.fr/deshommesenvrai/" TargetMode="External"/><Relationship Id="rId51" Type="http://schemas.openxmlformats.org/officeDocument/2006/relationships/hyperlink" Target="http://blog.francetv.fr/deshommesenvrai/" TargetMode="External"/><Relationship Id="rId52" Type="http://schemas.openxmlformats.org/officeDocument/2006/relationships/image" Target="../media/image8.png"/><Relationship Id="rId5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s 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isions en Fra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ance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724280"/>
            <a:ext cx="38098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629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ammes du can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59508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 magasines 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4 véri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À vous de ju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D’aujourd’h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’art D’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POL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09480"/>
            <a:ext cx="1981080" cy="53352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3429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ous ofrre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6160" y="2514240"/>
            <a:ext cx="404028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information en temps ré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issions culturelles intéressa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80880"/>
            <a:ext cx="1600200" cy="54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42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3864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s séries/fiction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iném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minu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ity Homic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rim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amille Serra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le d'accue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quêtes réservé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enquêtes de Murdo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9000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4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4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4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Arial"/>
              </a:rPr>
              <a:t>La Crim`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7120" y="2514600"/>
            <a:ext cx="241920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De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omme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vra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_x000b_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E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en couple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fil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pè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... François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Chilowic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 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film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sa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rencon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 avec 6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homm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 qui, à un momen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donn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 d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leur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 vies, s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son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interrogé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s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 l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difficult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 d’être un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omm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9"/>
              </a:rPr>
              <a:t>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0"/>
              </a:rPr>
              <a:t>Consul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1"/>
              </a:rPr>
              <a:t> l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2"/>
              </a:rPr>
              <a:t>blog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3"/>
              </a:rPr>
              <a:t> du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4"/>
              </a:rPr>
              <a:t>réalisate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5"/>
              </a:rPr>
              <a:t> e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6"/>
              </a:rPr>
              <a:t>ajou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7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8"/>
              </a:rPr>
              <a:t>vo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0"/>
              </a:rPr>
              <a:t>commentair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1"/>
              </a:rPr>
              <a:t> ! _x000b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1219320" y="1371600"/>
            <a:ext cx="6553080" cy="2779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La u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149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1143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YPD Blu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49568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441864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 u="sng">
                <a:solidFill>
                  <a:srgbClr val="ffffff"/>
                </a:solidFill>
                <a:uFillTx/>
                <a:latin typeface="Verdana"/>
              </a:rPr>
              <a:t>NYPD Blu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a vie d’un commissari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du 15e district de New York au pri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avec d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istoires de meurtres, vols, trafics de drogu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racisme.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BATMA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odèle pour les jeu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4343400"/>
            <a:ext cx="586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MAN-un classique immor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s enfants et des jeunes ,,BATMAN’’ est  un moyen de developper l’imagination des enfants et d’apprendre le frança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1T18:38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